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E6C9-2A4C-451E-A7CE-3CD230D9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A38D-B71C-4A14-B65E-855D407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5664-B0FB-4AFD-B970-67D288CEA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701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6520"/>
            <a:ext cx="291960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DBE8-1A93-4D35-9684-D20812DD3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FFDF-2A12-4818-A523-451299A4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721-98FA-4093-886C-A5547020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1233-0EE6-4213-8DBE-27CDEF50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97D-56AC-4464-B843-E130F855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77F-7A52-406C-84DC-D552A10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0C6-D158-4603-9794-4E9DE235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65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267F-F723-4541-BEA4-FD7BA87B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70120"/>
            <a:ext cx="442476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6520"/>
            <a:ext cx="906768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ECF-7C75-4415-BB7B-57998E18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70120"/>
            <a:ext cx="90676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6280" y="6889680"/>
            <a:ext cx="3192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88968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8264F-E1EF-42EE-8B69-DED98A23B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office.microsoft.com/en-us/excel-help/excel-shortcu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7776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Function Key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 + F4 will close the program window curr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in Microsoft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rl + F4 will close the open window with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active window in Microsoft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ll modern Internet browers pressing F5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 or reload the page or document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find, replace, and go to window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a slideshow in 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he cursor to the Address bar in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rer, Firefox, and most othe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trl + Shift + F6 opens to another open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used to spell check and gramm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a document in Microsoft programs such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Word, Outlook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+ F7 runs a Thesaurus check on the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Commonly used to access Windows saf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s the Measurements toolbar in Quark 5.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ac OS 10.3 or later shows all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Fn and F9 at the same time will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 Control on an Apple computer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 OS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icrosoft Windows activates the menu ba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pen app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+ F10 is the same as right-clicking on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ighted icon, file, or Internet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Full-screen mode in all modern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brow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s the Save as window in Microsof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+ F12 saves the Microsof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Ctrl + Shift + F12 prints a document in Microsoft    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g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ow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.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ehow.com/about_5367558_do-keys-computer-do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846680"/>
            <a:ext cx="9166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indow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com/en-us/windows/using-keyboard#using-keyboard=windows-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33480" y="6218280"/>
            <a:ext cx="926460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ffice.microsoft.com/en-us/excel-help/excel-shortc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nd-function-keys-HP01007384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x#BMfunction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07960" y="2297160"/>
            <a:ext cx="7253280" cy="40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Types Of Function Key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1. Fn ke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2. F1 through F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564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"Fn" (or "FN" or "Function") key on laptop PCs is usually found in the lower-left corner of the keyboard, near the "Shift" and "Ctrl" (Control) keys. The Fn key functions much like Shift and Ctrl -- as a "modifier," meaning it does something only when used in conjunction with another ke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n used in conjunction with the Fn key, the F1-F12 keys typically offer hardware controls, such as screen brightness and contrast, volume and CD/DVD controls. These functions vary depending on the computer's manufacturer and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711440" y="1768320"/>
            <a:ext cx="665460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icrosoft YaHei"/>
              </a:rPr>
              <a:t>What are the F1 through F12 key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5062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lvl="1" marL="855000" indent="0" algn="ctr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ly known as "function keys", F1 through F12 may have a variety of different uses or no use at all. Depending on the installed operating system and the software program currently open will change how each of these keys ope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 Microsoft programs, for example, F7 usually runs spell-check, while F5 refreshes a browser wind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Almost always used as the help key, alm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every program will open the help screen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this key is pre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Windows Key + F1 would open the 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Windows help and support ce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49000" y="38412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In Windows renames a highlighted icon, file, or folder in all versions of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Alt + Ctrl + F2 opens document window in Microsoft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9000" y="5006880"/>
            <a:ext cx="8578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 marL="457200" indent="-22716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Ctrl + F2 displays the print preview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227160">
              <a:lnSpc>
                <a:spcPct val="93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in Microsoft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70120"/>
            <a:ext cx="9069480" cy="52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Often opens a search feature for many programs including Microsoft Windows when at the Windows Desk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Shift + F3 will change the text in Microsoft Word from upper to lower case or a capital letter at the beginning of every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icrosoft YaHei"/>
              </a:rPr>
              <a:t>Windows Key + F3 opens the Advanced find window in Microsoft Outl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8T21:05:40Z</dcterms:created>
  <dc:creator/>
  <dc:description/>
  <dc:language>en-US</dc:language>
  <cp:lastModifiedBy/>
  <dcterms:modified xsi:type="dcterms:W3CDTF">2014-01-03T17:58:12Z</dcterms:modified>
  <cp:revision>8</cp:revision>
  <dc:subject/>
  <dc:title/>
</cp:coreProperties>
</file>