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A89F1-5E16-4199-9B49-064751A4C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BCD9-0272-470A-A10D-F08800C3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27359-1D28-40A0-842A-1949D9E80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508AE-AEF7-4301-B4E8-99B7E5466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3C75-DB5E-4023-BC6A-B98BCE26B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36D4-F80C-433C-AD61-C24262D7F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F1EF7-5CCD-4BA4-9345-65569FFC5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9CB6-6B5E-4863-8760-0384FE0C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3258-1F10-44A4-A0F0-3E9B0ABB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D59E-74A6-407D-B73E-60ED0EE0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F0CE-3897-4761-8949-04B0F2DB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6514-566D-4FEC-A006-5571914B7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4B5EE-0114-42C0-9655-EA97EDC557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bile Comput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Other Hardware features</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617544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ount of Storage</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ount of Memory</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Quality of Materials</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PS</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D card slots</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DMI output</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lueTooth</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FC</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LNA support for wireless broadcasting</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aring Apples to Apples</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aring Androids to Androids</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194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ea typeface="Arial Unicode MS"/>
              </a:rPr>
              <a:t>So many manufacturer's!</a:t>
            </a:r>
            <a:endParaRPr b="0" lang="en-US" sz="2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ea typeface="Arial Unicode MS"/>
              </a:rPr>
              <a:t>Low-end tablets can have less powerful processors, less memory, and less storage.  </a:t>
            </a:r>
            <a:endParaRPr b="0" lang="en-US" sz="2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ea typeface="Arial Unicode MS"/>
              </a:rPr>
              <a:t>It is important to note that Android devices do not always ship with the latest operating system.</a:t>
            </a:r>
            <a:endParaRPr b="0" lang="en-US" sz="2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ea typeface="Arial Unicode MS"/>
              </a:rPr>
              <a:t>They might not be authorized for the google play store.  </a:t>
            </a:r>
            <a:endParaRPr b="0" lang="en-US" sz="2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Also manufacturer's skin the operating system.  This means that they may have a different look and feel, and different capabilities than the pure Android experience</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aring Apples to Androids</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299  -  iPad Mini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229  -  Google Nexus 7 2013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 how do you choose?</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ic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pps and Feature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se of Us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elling reasons to choose Apple's iPad</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r kids have Apple iPads or iPhone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acetim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already have a lot of iTunes music</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tter built in Text to Speech feature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irPlay</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irPrint</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have a iPhone and want to leverage your knowledg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elling Reasons to choose Android</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fits into your budget</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have someone who can help you with Androids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have an Android phone and are familiar with the operating system</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y Criteria for a Tablet</a:t>
            </a: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have Android – for the learning experienc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be a modern flavor of Android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be capable of mirroring via DLNA or HDMI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heap as possibl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y Criteria for a Tablet</a:t>
            </a: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have Android – for the learning experienc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be a modern flavor of Android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st be capable of mirroring via DLNA or HDMI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heap as possib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isense Sero Pro 7 Specs</a:t>
            </a:r>
            <a:endParaRPr b="0" lang="en-US" sz="4400" spc="-1" strike="noStrike">
              <a:solidFill>
                <a:srgbClr val="000000"/>
              </a:solidFill>
              <a:latin typeface="Arial"/>
            </a:endParaRPr>
          </a:p>
        </p:txBody>
      </p:sp>
      <p:sp>
        <p:nvSpPr>
          <p:cNvPr id="80" name=""/>
          <p:cNvSpPr/>
          <p:nvPr/>
        </p:nvSpPr>
        <p:spPr>
          <a:xfrm>
            <a:off x="69840" y="1630440"/>
            <a:ext cx="10010880" cy="4960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
        <p:nvSpPr>
          <p:cNvPr id="81" name="PlaceHolder 2"/>
          <p:cNvSpPr>
            <a:spLocks noGrp="1"/>
          </p:cNvSpPr>
          <p:nvPr>
            <p:ph/>
          </p:nvPr>
        </p:nvSpPr>
        <p:spPr>
          <a:xfrm>
            <a:off x="502920" y="1767960"/>
            <a:ext cx="9070920" cy="7450200"/>
          </a:xfrm>
          <a:prstGeom prst="rect">
            <a:avLst/>
          </a:prstGeom>
          <a:noFill/>
          <a:ln w="0">
            <a:noFill/>
          </a:ln>
        </p:spPr>
        <p:txBody>
          <a:bodyPr lIns="0" rIns="0" tIns="158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VIDIA Tegra3 Quad Core 1.3GHz processor</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aptive Touch 7.0" 1280x800, HD, IPS </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Rear facing 5.0 MB  with flash, 2.0 MB front facing Camera</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i-Fi Only 802.11 a/b/g/n 2.4Ghz and 5 Ghz</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etworking: Wi-Fi Only 802.11 a/b/g/n 2.4Ghz and 5 Ghz</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irco USB jack</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ini HDMI out (so you can mirror your screen on a TV with HDMI inputs)</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ndroid 4.2 Jelly Bean </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1GB Ram</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8 GB Internal Storage (5GB is available to the USER)</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icroSD slot that can have up to 32G of extra storage</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luetooth 3.0</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GPS </a:t>
            </a:r>
            <a:endParaRPr b="0" lang="en-US" sz="18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s this?</a:t>
            </a:r>
            <a:endParaRPr b="0" lang="en-US" sz="4400" spc="-1" strike="noStrike">
              <a:solidFill>
                <a:srgbClr val="000000"/>
              </a:solidFill>
              <a:latin typeface="Arial"/>
            </a:endParaRPr>
          </a:p>
        </p:txBody>
      </p:sp>
      <p:sp>
        <p:nvSpPr>
          <p:cNvPr id="4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2444760" y="3559320"/>
            <a:ext cx="5429160" cy="400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magine My Surprise</a:t>
            </a:r>
            <a:endParaRPr b="0" lang="en-US" sz="4400" spc="-1" strike="noStrike">
              <a:solidFill>
                <a:srgbClr val="000000"/>
              </a:solidFill>
              <a:latin typeface="Arial"/>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Hisense Sero 7 </a:t>
            </a:r>
            <a:r>
              <a:rPr b="0" lang="en-US" sz="3200" spc="-1" strike="noStrike" u="sng">
                <a:solidFill>
                  <a:srgbClr val="000000"/>
                </a:solidFill>
                <a:uFillTx/>
                <a:latin typeface="Arial"/>
              </a:rPr>
              <a:t>PRO</a:t>
            </a:r>
            <a:r>
              <a:rPr b="0" lang="en-US" sz="3200" spc="-1" strike="noStrike">
                <a:solidFill>
                  <a:srgbClr val="000000"/>
                </a:solidFill>
                <a:latin typeface="Arial"/>
              </a:rPr>
              <a:t> handled the most demanding apps at a speed that matched the iPad Mini.</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y Opinion</a:t>
            </a:r>
            <a:endParaRPr b="0" lang="en-US" sz="4400" spc="-1" strike="noStrike">
              <a:solidFill>
                <a:srgbClr val="000000"/>
              </a:solidFill>
              <a:latin typeface="Arial"/>
            </a:endParaRPr>
          </a:p>
        </p:txBody>
      </p:sp>
      <p:sp>
        <p:nvSpPr>
          <p:cNvPr id="8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my opinion, Androids bad reputation comes from underpowered equipment running obsolete versions of the operating system.  </a:t>
            </a:r>
            <a:endParaRPr b="0" lang="en-US" sz="32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f you are going to purchase a tablet do your homework!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marL="45720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ablet - is generic term for any a mobile computer with  touchscreen display that is operated with fingers or stylus pen instead of  a  mouse and keyboard.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03280" y="301680"/>
            <a:ext cx="9070920" cy="6456240"/>
          </a:xfrm>
          <a:prstGeom prst="rect">
            <a:avLst/>
          </a:prstGeom>
          <a:noFill/>
          <a:ln w="0">
            <a:noFill/>
          </a:ln>
        </p:spPr>
        <p:style>
          <a:lnRef idx="0"/>
          <a:fillRef idx="0"/>
          <a:effectRef idx="0"/>
          <a:fontRef idx="minor"/>
        </p:style>
        <p:txBody>
          <a:bodyPr lIns="0" rIns="0" tIns="212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almart defines a Tablet this way:</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Tablet PCs are compact, ultra-portable entertainment devices that let you read email, surf the internet, read eBooks, view photos, play games, listen to music and watch video files. Most tablets are based on a smaller operating system, which allows you to purchase and download additional applications from supported stores. Tablet PCs are ideal for use around the home and on the go with WiFi or 3-4g mobile broadband connections (pay as you go, contract may be required for service).”</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ablets vary widely in price.</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nufacturer's Suggested Retail Prices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an run from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69 to $928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870120" y="3701880"/>
            <a:ext cx="3976560" cy="3613320"/>
          </a:xfrm>
          <a:prstGeom prst="rect">
            <a:avLst/>
          </a:prstGeom>
          <a:ln w="0">
            <a:noFill/>
          </a:ln>
        </p:spPr>
      </p:pic>
      <p:pic>
        <p:nvPicPr>
          <p:cNvPr id="50" name="" descr=""/>
          <p:cNvPicPr/>
          <p:nvPr/>
        </p:nvPicPr>
        <p:blipFill>
          <a:blip r:embed="rId2"/>
          <a:stretch/>
        </p:blipFill>
        <p:spPr>
          <a:xfrm>
            <a:off x="5668920" y="1736640"/>
            <a:ext cx="4029120" cy="5761080"/>
          </a:xfrm>
          <a:prstGeom prst="rect">
            <a:avLst/>
          </a:prstGeom>
          <a:ln w="0">
            <a:noFill/>
          </a:ln>
        </p:spPr>
      </p:pic>
      <p:sp>
        <p:nvSpPr>
          <p:cNvPr id="51" name="PlaceHolder 2"/>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ifi Only vs. Wifi + 3G or 4G Servic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57520" y="1901880"/>
            <a:ext cx="3086280" cy="3838680"/>
          </a:xfrm>
          <a:prstGeom prst="rect">
            <a:avLst/>
          </a:prstGeom>
          <a:ln w="0">
            <a:noFill/>
          </a:ln>
        </p:spPr>
      </p:pic>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creen Size</a:t>
            </a:r>
            <a:endParaRPr b="0" lang="en-US" sz="4400" spc="-1" strike="noStrike">
              <a:solidFill>
                <a:srgbClr val="000000"/>
              </a:solidFill>
              <a:latin typeface="Arial"/>
            </a:endParaRPr>
          </a:p>
        </p:txBody>
      </p:sp>
      <p:sp>
        <p:nvSpPr>
          <p:cNvPr id="54"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cess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93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RM (Reduced Instruction Set)</a:t>
            </a:r>
            <a:endParaRPr b="0" lang="en-US" sz="3200" spc="-1" strike="noStrike">
              <a:solidFill>
                <a:srgbClr val="000000"/>
              </a:solidFill>
              <a:latin typeface="Arial"/>
            </a:endParaRPr>
          </a:p>
          <a:p>
            <a:pPr marL="441360" indent="-32400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ngle Core</a:t>
            </a:r>
            <a:endParaRPr b="0" lang="en-US" sz="3200" spc="-1" strike="noStrike">
              <a:solidFill>
                <a:srgbClr val="000000"/>
              </a:solidFill>
              <a:latin typeface="Arial"/>
            </a:endParaRPr>
          </a:p>
          <a:p>
            <a:pPr marL="441360" indent="-32400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ual Core</a:t>
            </a:r>
            <a:endParaRPr b="0" lang="en-US" sz="3200" spc="-1" strike="noStrike">
              <a:solidFill>
                <a:srgbClr val="000000"/>
              </a:solidFill>
              <a:latin typeface="Arial"/>
            </a:endParaRPr>
          </a:p>
          <a:p>
            <a:pPr marL="441360" indent="-32400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Quad Core</a:t>
            </a:r>
            <a:endParaRPr b="0" lang="en-US" sz="3200" spc="-1" strike="noStrike">
              <a:solidFill>
                <a:srgbClr val="000000"/>
              </a:solidFill>
              <a:latin typeface="Arial"/>
            </a:endParaRPr>
          </a:p>
          <a:p>
            <a:pPr marL="441360" indent="-32400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64 Bit</a:t>
            </a:r>
            <a:endParaRPr b="0" lang="en-US" sz="3200" spc="-1" strike="noStrike">
              <a:solidFill>
                <a:srgbClr val="000000"/>
              </a:solidFill>
              <a:latin typeface="Arial"/>
            </a:endParaRPr>
          </a:p>
          <a:p>
            <a:pPr marL="93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x86 Processors</a:t>
            </a:r>
            <a:endParaRPr b="0" lang="en-US" sz="3200" spc="-1" strike="noStrike">
              <a:solidFill>
                <a:srgbClr val="000000"/>
              </a:solidFill>
              <a:latin typeface="Arial"/>
            </a:endParaRPr>
          </a:p>
          <a:p>
            <a:pPr marL="93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Operating System</a:t>
            </a:r>
            <a:endParaRPr b="0" lang="en-US" sz="4400" spc="-1" strike="noStrike">
              <a:solidFill>
                <a:srgbClr val="000000"/>
              </a:solidFill>
              <a:latin typeface="Arial"/>
            </a:endParaRPr>
          </a:p>
        </p:txBody>
      </p:sp>
      <p:pic>
        <p:nvPicPr>
          <p:cNvPr id="58" name="" descr=""/>
          <p:cNvPicPr/>
          <p:nvPr/>
        </p:nvPicPr>
        <p:blipFill>
          <a:blip r:embed="rId1"/>
          <a:stretch/>
        </p:blipFill>
        <p:spPr>
          <a:xfrm>
            <a:off x="3718080" y="1736640"/>
            <a:ext cx="2466720" cy="1847880"/>
          </a:xfrm>
          <a:prstGeom prst="rect">
            <a:avLst/>
          </a:prstGeom>
          <a:ln w="0">
            <a:noFill/>
          </a:ln>
        </p:spPr>
      </p:pic>
      <p:pic>
        <p:nvPicPr>
          <p:cNvPr id="59" name="" descr=""/>
          <p:cNvPicPr/>
          <p:nvPr/>
        </p:nvPicPr>
        <p:blipFill>
          <a:blip r:embed="rId2"/>
          <a:stretch/>
        </p:blipFill>
        <p:spPr>
          <a:xfrm>
            <a:off x="2803680" y="3444840"/>
            <a:ext cx="4236840" cy="1674720"/>
          </a:xfrm>
          <a:prstGeom prst="rect">
            <a:avLst/>
          </a:prstGeom>
          <a:ln w="0">
            <a:noFill/>
          </a:ln>
        </p:spPr>
      </p:pic>
      <p:pic>
        <p:nvPicPr>
          <p:cNvPr id="60" name="" descr=""/>
          <p:cNvPicPr/>
          <p:nvPr/>
        </p:nvPicPr>
        <p:blipFill>
          <a:blip r:embed="rId3"/>
          <a:stretch/>
        </p:blipFill>
        <p:spPr>
          <a:xfrm>
            <a:off x="3954600" y="5211720"/>
            <a:ext cx="1622160" cy="1828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2:12:03Z</dcterms:created>
  <dc:creator>Vicky Getz</dc:creator>
  <dc:description/>
  <dc:language>en-US</dc:language>
  <cp:lastModifiedBy>Vicky Getz</cp:lastModifiedBy>
  <dcterms:modified xsi:type="dcterms:W3CDTF">2013-12-14T02:16:24Z</dcterms:modified>
  <cp:revision>4</cp:revision>
  <dc:subject/>
  <dc:title/>
</cp:coreProperties>
</file>